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54E-7E34-4594-949F-2DE82F5E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6F1-E4A3-4224-B7A7-F72FB1D0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698-2ADD-46BA-BFB6-41E7BD07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B42-68FB-47EB-B4E1-1B451080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5C9A-C452-4250-9549-906CEFCA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B76C-C25C-4B8A-9A35-E622FFDF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0DED-A9BA-4575-B796-8AF44276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65DE-248A-4F32-A06B-96D64473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36C2-1109-4803-899D-69BE3B96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0472-74FA-4055-A6D3-FAF5A6FE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4D9B-349E-4875-AD6C-CF97BD48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2E0-815B-4FF2-A867-1048B9D1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A0FB-D0D4-48E2-B75D-65ED27B1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EA12-CE85-4B27-8061-A6C836F5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E7AA-D23C-4CA2-BD0F-F06E953B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5638-A533-4BF5-A97D-F516DB58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CD5C-9AE4-42F4-89F1-40CC682C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57B-6D3C-4373-929C-3E85AE0B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DDC-4702-44F9-B2EF-44ED6223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9A3-4799-4BD9-8D43-81676DD8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1E4-F9C3-42C3-B510-234C08D1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DB7-7C1D-46F1-BC9D-4A0F1A2C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7BF-EDD6-4F6C-8B9E-096532AD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366-FB45-44B9-8FD2-1AE0958E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43EE-895D-42BF-9C0B-5ABB1EA4F8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B83B-85D0-4A41-A4AB-F1283A7393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nline Etiquette &amp; Safet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have cyberpal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eb sites do you go to to cha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kinds of things do you chat abou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given out personal information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visited a web site with inappropriate cont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you ever been a victim of cyberbully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so, describe what happen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id you deal with the situ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you ever been a witness to cyberbullying that was not directed at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d you do anything? If so, what did you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 of Etiquet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manners and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ys to behave in different sit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What would happen if people made up their own rules when driving? Or in the classroom? At a restaurant or movi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the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gns or pos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ers or adul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 set by oth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line Etiquet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hing online is priv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that there are real people behind screen na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you write can be misinterpre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you write online can be easily reproduced and distributed without your permissio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line Etiquet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considerate of 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write hurtful, mean or inappropriate  com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someone’s permission before you post pictures or videos of th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cyberbull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one who uses the Internet or text messaging to harass, threaten, or spread rumor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hing you think is funny may not be funny to others- think before you post any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o do about cyberbul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l an adult (parent, teacher, counselor) about the bully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open, read or respond to messages from cyberbull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not erase the bully’s messages- keep them for evid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an adult check to see if the bully can be block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come across anything (web sites, bad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guage, insults) that doesn’t see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 to you, check with an adul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fe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visit web sites that are appropriate for people your 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“sign” an agreement or “terms of use” without checking with an adult first- especially if there is an age requir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ver give out any personal information- your address, last name, school, e-mail address, phone number, pass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reating a user name- pick one that does not give away your true ident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 Cited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'Cornwall, Phyllis.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Online Etiquette and Safe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Ann Arbor, MI: Cherry Lake Publishing, 2011. Prin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4:10:51Z</dcterms:created>
  <dc:creator>reading</dc:creator>
  <dc:description/>
  <dc:language>en-US</dc:language>
  <cp:lastModifiedBy>reading</cp:lastModifiedBy>
  <dcterms:modified xsi:type="dcterms:W3CDTF">2012-01-18T14:05:45Z</dcterms:modified>
  <cp:revision>7</cp:revision>
  <dc:subject/>
  <dc:title>Online Etiquette &amp; Safety</dc:title>
</cp:coreProperties>
</file>